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434F-8841-44DE-BD8B-A098CFDA6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56F9-A07E-4986-BE68-B319DF41D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1A73-9ADE-44E3-85CF-F007BF877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F88F-E6B3-4B0C-8824-25B13459C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792C-CC9E-412D-97BF-C1FDD787F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DFAE-FB9A-422D-9D56-B9DD50777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9566-2B61-446A-9980-2A7E8627B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803E-5AB9-48A7-9F36-5A36263ED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97F4-3792-4A6E-8A2F-7121E7D2F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CB7C-2371-419F-A4B2-EF2A4B5A2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B917-48F1-4DDE-B734-7D49067FF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D397-F691-428F-87EA-6A20A33E1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B9A9-92D6-4E65-AB08-141FB8945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0F29-AD7B-4F4D-A7CF-2048656AE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E546-6EBC-4B65-B1FF-456D4F838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3998-D915-49E7-9229-704EBFEE7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0313-1B05-403E-A006-CE7635D57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A4A1-54D8-4E4F-A74D-2B5AE1971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953A-0CFE-4FAB-A2AA-3957EF21E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189E-93A2-4396-A171-6D1E939AC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ED27-5306-4EEE-8232-C35C717A7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9235-9F65-4EE3-946C-B8B2247C9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9F74-C2ED-48DC-AA61-2BB3988CA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C73E-9982-4EB1-B804-D56BF410D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0C6B-8DB4-4CF0-9EB8-3A47E6F83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DBA6-C2BE-4DD0-887B-21D387AAF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D526-C82E-48BF-8EF5-8DAA50DB4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889D-7458-41F1-A75F-A9FF8BA7D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27DD-C232-462B-9A26-231FDB270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C5C5-09AB-4E65-A16B-8026A5C6C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C157-E0F3-4ED9-B349-C963034C1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78CD-193F-4CD8-A9AB-0E6DBA442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396B-B0AB-4BDC-898F-0974B255B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8268-F04E-4DA0-924C-236C86439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F587-89B6-4403-8AAD-2C3BB99B4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0220-1894-41BF-8AFE-71279EB45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8F85-780A-4042-8DEF-3C7C6F9E0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91F7-5CF1-4A7F-A1A2-37B577DA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0EA9-0388-4B20-8666-B76F4A18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7586-EA51-451A-ABA9-19603135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568C-519D-423E-A040-01DF4E61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254E-05C0-4B97-9A52-C689794E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F10A-BAC2-4980-BF99-C6A0B363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4B6C-741C-4D3B-BECB-0C778504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D6AC-4B64-4B82-94C1-C5038BE6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DECE-7814-4CF8-B195-F4649EAA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60F8-4231-47EC-B6B0-7A1A8900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8E45-A207-49AB-8C20-27A92237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EED0-ECE0-43DC-A7AA-1EE98319E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E954-B129-487B-B3A3-09F2E46A72F5}" type="slidenum">
              <a:rPr b="0" lang="sr-Latn-C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гисане академске студије фарм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2349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А С Т В О Р 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sr-Latn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es</a:t>
            </a:r>
            <a:r>
              <a:rPr b="0" lang="sr-Latn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305320" y="5805360"/>
            <a:ext cx="29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</a:rPr>
              <a:t>Проф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. др Ана Барјактарев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1844280" y="1773360"/>
            <a:ext cx="561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АРМАЦЕУТСКА ТЕХНОЛОГИЈ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љивост и природа супстанце која се раств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31640" y="1988640"/>
            <a:ext cx="86868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лекулска маса</a:t>
            </a:r>
            <a:r>
              <a:rPr b="0" lang="ru-RU" sz="2000" spc="-1" strike="noStrike">
                <a:solidFill>
                  <a:srgbClr val="e816ca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м молекулске масе повећавају се интермолекуларне силе, при чему се смањује растворљив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еличина честиц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тњавањем честица омогућава се већа додирна површина између растварача и растворене супстанц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 доводи до повећања растворљивост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јски облик:  цис форма је растворљивија у односу на тран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мператур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опљењ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упстанце са високом тачком топљења имају ниску растворљивост (сулфадиази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t 253 ºC – 1 g у13 d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 сулфатиазол: Tt 174 ºC – 1 g у 1,7 d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истална структу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оложај молекула растварача, различити полиморфни облици (стероиди, барбитурати, сулфонамиди) и различит број солватисаних молекула растварача у кристалној решетки, доводе до значајних разлика у брзини растварања – утицај на биорасположивост. Аморфни облици се брже растварају од кристални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љивост и природа раствар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пол моменат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арни растварачи (нпр. вода) имају велики диполни моменат. При додавању јонске материје у поларни растварач, формирају се јонски парови што условљава брзо растварањ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арни растварачи могу да “кидају” ковалентне везе поларних супстанци, што доводи до солватације ослобођених анјона и катјо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ларни растварачи имају ниску диелектричну константу и растварају неполарне леко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љивост 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д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280" y="2285640"/>
            <a:ext cx="814716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е лековите супстанце и помоћне материје су слабе базе или слабе киселине. Њихова растворљивост знатно варира у зависности од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дности сред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и су растворљивији у води од неутралних молекула па се повећање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дности средине повећав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 јонизације киселине и растворљивост у води (барбитурати, сулфонамиди ит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вање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дности средине повећава се степен јонизације слабих база и повећава растворљивост у води - алкалоиди (атропин, кодеин, морфин), антихистаминици (дифенхидрамин, прометазин), локални анестетици (прокаин, тетрака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љивост 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2565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на супстанци при растварању апсорбује топлоту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терман процес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зотерман процес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пр. Са(ОН)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Up Arrow 3"/>
          <p:cNvSpPr/>
          <p:nvPr/>
        </p:nvSpPr>
        <p:spPr>
          <a:xfrm>
            <a:off x="1332000" y="3789360"/>
            <a:ext cx="287280" cy="433440"/>
          </a:xfrm>
          <a:prstGeom prst="upArrow">
            <a:avLst>
              <a:gd name="adj1" fmla="val 50000"/>
              <a:gd name="adj2" fmla="val 5001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Up Arrow 4"/>
          <p:cNvSpPr/>
          <p:nvPr/>
        </p:nvSpPr>
        <p:spPr>
          <a:xfrm>
            <a:off x="3851280" y="3789360"/>
            <a:ext cx="289080" cy="433440"/>
          </a:xfrm>
          <a:prstGeom prst="upArrow">
            <a:avLst>
              <a:gd name="adj1" fmla="val 50000"/>
              <a:gd name="adj2" fmla="val 4997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4356000" y="5661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творљ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4356000" y="3789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творљ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2195640" y="479736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Up Arrow 8"/>
          <p:cNvSpPr/>
          <p:nvPr/>
        </p:nvSpPr>
        <p:spPr>
          <a:xfrm>
            <a:off x="1332000" y="5661000"/>
            <a:ext cx="287280" cy="432000"/>
          </a:xfrm>
          <a:prstGeom prst="upArrow">
            <a:avLst>
              <a:gd name="adj1" fmla="val 50000"/>
              <a:gd name="adj2" fmla="val 5003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1835280" y="5661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опл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wn Arrow 12"/>
          <p:cNvSpPr/>
          <p:nvPr/>
        </p:nvSpPr>
        <p:spPr>
          <a:xfrm>
            <a:off x="3851280" y="5661000"/>
            <a:ext cx="289080" cy="43200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3"/>
          <p:cNvSpPr/>
          <p:nvPr/>
        </p:nvSpPr>
        <p:spPr>
          <a:xfrm>
            <a:off x="190800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опл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Е ЗА ПОВЕЋАЊЕ РАСТВОРЉИВ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3068280"/>
            <a:ext cx="8229600" cy="32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а модификација молеку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р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вање косолвен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тропиј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убил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а модификација молеку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229600" cy="34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ђење хидрофилн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, COOH, NH</a:t>
            </a:r>
            <a:r>
              <a:rPr b="0" lang="sr-Latn-R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већава растворљив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ање сол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фенобарбитал) – повећава растворљив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фикација – смањује растворљивост у води (маскирање непријатног укуса лека, заштита од деградације у ГИТ-у), повећање апсорпције (еритромицин пропиона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р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вањем компоненте која формира интермолекуларне комплексе са тешко растворном супстанцом повећава се растворљив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пр. комплесирање са циклодекстрин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вање косолвен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љивост неполарних молекула може се повећати додатко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е супстанце мале поларности која се меша са водом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олвенс. Нпр. етанол, глицерол, пропиленгликол итд. Концентрација косолвенса је ограничена физиолошком подношљивошћ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троп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ак помоћних материја (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тропни агенси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ло лако растворних у води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исоким концентрацијама (20-50%). Нпр. натријум-бензоат, натријум-салицилат.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убил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ак површински активних материја (ПАМ) тј. солубилизатора - у малим концентрацијама имају особину да смањају површински или међуповршински напо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солубилизатори користе се ПАМ са ХЛБ вредношћу 15-1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убилизатори официнални у Југословенској фармакопеји 2000: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лисорбат 20, 60, 8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 у фармациј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стварање витамина А и Д, анагетика, етарских уља, антиоксиданса, антимикробних средстава, антикоагуланаса, барбитурата, кортикостероид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ост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мене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о се апликују (педијатрија, геријатриј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 је растворен - бржа апсорп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 је хомогено дистрибуи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ње иритације желудачне слузокоже (у поређењу са таблета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ставнији за производњу од других дозираних обл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ци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ијска нестабилност лековите супстанце (хидролиз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огућност формулације свих лекова у облик раств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шка контаминација (нарочито водени раствор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чност дозирања вишедозних препарата зависи од пациј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ијатан укус лека је израженији у раствору него у чврстом обли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395280" y="2303640"/>
            <a:ext cx="82296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ПРАВИ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 -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једнофа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(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10</a:t>
            </a:r>
            <a:r>
              <a:rPr b="1" lang="sr-Latn-CS" sz="2800" spc="-1" strike="noStrike" baseline="30000">
                <a:solidFill>
                  <a:srgbClr val="ff0000"/>
                </a:solidFill>
                <a:latin typeface="Times New Roman"/>
              </a:rPr>
              <a:t>-9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ЛОИДН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ишефа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10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</a:rPr>
              <a:t>-9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m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РУ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СУСПЕНЗИЈЕ И ЕМУЛЗИЈЕ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sr-Latn-CS" sz="26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</a:rPr>
              <a:t> m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8440" y="9694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раствора према величини честица растворка: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626840" y="227664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АР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2060280"/>
            <a:ext cx="896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коришћени растварач је вод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кономична и нетоксич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qua purificata,  Aqua demineralisata,  Aqua  pro inject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одени растварачи се користе када је супстанца недовољно растворна или недовољно стабилна у воденом систе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одени раствори су ограничени на интрамускуларну и топикалну примену због токсичности и иритирајућег деј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коришћени неводени растварачи су: етанол, глицерол, пропиленгликол и биљна уљ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тано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ајчешће коришћени органски растварач у фармацеутским препаратима. Користи се  као кословенс у оралним, топикалним и парентералним растворима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 нежељеног фармаколошког деловања и потенцијалне токсичности, у препаратима за децу се користи у ограниченим количинама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395280" y="3500280"/>
            <a:ext cx="8569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опиленглико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косолвенс у оралним, топикалним, парентералним и растворима за у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Глицеро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растварач или корастварач у комбинацији са водом у оралним и парентералним раствори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Биљна уљ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маслиново, кукурузно, сусамово...) – некада коришћена у формулацији интрамускуларних препарата, данас замењена синтетичким (етилолеа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06164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угословенска фармакопеја 200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Ph.Jug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Течни препарати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алну употребу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sr-RS" sz="2800" spc="-1" strike="noStrike">
                <a:solidFill>
                  <a:srgbClr val="e816ca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quida per oral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Течни препарати за спољашњу употребу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sr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quida ad usum dermicum)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пи за уши, у монографији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sr-Latn-CS" sz="2800" spc="-1" strike="noStrike">
                <a:solidFill>
                  <a:srgbClr val="e816ca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uricularia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апи за нос, у монографији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sr-Latn-CS" sz="2800" spc="-1" strike="noStrike">
                <a:solidFill>
                  <a:srgbClr val="e816ca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salia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ектални раствори и суспензије (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emata</a:t>
            </a:r>
            <a:r>
              <a:rPr b="0" lang="ru-RU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лизме), у монографији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tali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апи за очи, лосиони за очи (у оквиру монографије Препарати за очи –</a:t>
            </a:r>
            <a:r>
              <a:rPr b="0" lang="ru-RU" sz="2800" spc="-1" strike="noStrike">
                <a:solidFill>
                  <a:srgbClr val="e816ca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cularia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Инјекције, интравенске инфузије, концентрати за инј. и и.в инфузије (у оквиру монографије –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enterali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Препарити за иригацију -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parationes ad irrigation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Течни препарати за инхалацију; течни препарати за распршивање (небулизацију); препарати за инхалацију под притиском и са дозатором (у оквиру монографије </a:t>
            </a:r>
            <a:r>
              <a:rPr b="0" lang="ru-RU" sz="2800" spc="-1" strike="noStrike">
                <a:solidFill>
                  <a:srgbClr val="e816ca"/>
                </a:solidFill>
                <a:latin typeface="Times New Roman"/>
                <a:ea typeface="Times New Roman"/>
              </a:rPr>
              <a:t>–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haland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нографије раствора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Ph.Eur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, 8, 9, 10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a1617"/>
                </a:solidFill>
                <a:latin typeface="Times New Roman"/>
                <a:ea typeface="Times New Roman"/>
              </a:rPr>
              <a:t>Поред препарата које води  </a:t>
            </a:r>
            <a:r>
              <a:rPr b="0" lang="en-US" sz="2000" spc="-1" strike="noStrike">
                <a:solidFill>
                  <a:srgbClr val="1a1617"/>
                </a:solidFill>
                <a:latin typeface="Times New Roman"/>
                <a:ea typeface="Times New Roman"/>
              </a:rPr>
              <a:t>Ph.Jug. V, Ph.Eur.  садржи и монограф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ер)оралне капи и сирупи (у оквиру монографије течни препарати за пероралну примену –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ationes liquide peroralie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за гргљање; раствори за испирање уста; раствори за десни; раствори за оралну слузокожу; капи за оралну слузокожу; спрејеви за оралну слузокожу и сублингвални спрејеви (у оквиру монографије Препарати за оралну слузокожу – 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ationes bucc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за вагиналну примену (у оквиру монографије Препарати за вагиналну примену – 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ginali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чни препарати за оралну употребу </a:t>
            </a:r>
            <a:br>
              <a:rPr sz="2600"/>
            </a:br>
            <a:r>
              <a:rPr b="1" i="1" lang="sr-Latn-C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quida peroralia</a:t>
            </a:r>
            <a:br>
              <a:rPr sz="28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820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, суспензије, емулзиј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лажени или неразблажени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према из концентрованих раствора, прашкова, гранула, таблета, коришћењем одговарајућих вехикулума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а или више лековитих супстанц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не материј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ерванси (натријум-бензоат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арабени (естри пара-хидроксибензојеве кис.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лијум-сорба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иоксиданси (аскорбинска киселина, натријум-метабисулфит, лимунска киселина и ЕД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ства за повећање вискозитета, емулгатор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квашење, солубилизато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изатори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корекцију укуса и мириса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вољене бо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зир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дозни препарати (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дозни препарати (дозирање на кашичицу или капаљк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ње на кап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парати који се дозирају на капи на сигнатури морају имати податак о броју капи у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г препара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6"/>
          <p:cNvSpPr/>
          <p:nvPr/>
        </p:nvSpPr>
        <p:spPr>
          <a:xfrm>
            <a:off x="3718080" y="2627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179280" y="1152360"/>
            <a:ext cx="403236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А КАШИЧИЦА = 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l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ЛИКА КАШИКА = 1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НДАРДНА КАПАЉ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капаљка чији је спо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шњ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мер 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а промер отвора 0,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При температури од 20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п воде која капа из цеви када је она у вертикалном положају изно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gtt = 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 m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Pratite uputstva: Vreme je za sirup! - Mamaibeba.com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3090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F:\Far.tehnologija 1\2021 22\download.jpg"/>
          <p:cNvPicPr/>
          <p:nvPr/>
        </p:nvPicPr>
        <p:blipFill>
          <a:blip r:embed="rId2"/>
          <a:stretch/>
        </p:blipFill>
        <p:spPr>
          <a:xfrm>
            <a:off x="5435640" y="3500280"/>
            <a:ext cx="3110040" cy="23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е за израду раствора или суспензија користе прашкови и грануле, произвођач мора да назначи следећи подат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 израде (реконституциј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 чувањ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к употребе реконституисаног раствора или суспенз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ради, паковању, чувању и дистрибуцији мора да с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езбеди микробиолошка чистоћ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1341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ктивне супстанц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ероралним раствори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колити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анеми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отски лаксати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оидни аналгети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активне супстанце изражава се у mg/ml или mg/5ml препар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раствора према агрегатном стању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920" y="28526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овит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меше гасова - вазду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асови, течности или чврсте супстанце растворене у течном растварач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аствори метала или једињења у чврстој фаз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легур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ити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дначеност садржаја лековите супстанце (суспензије као једнодозна паковањ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рање масе (раствори и емулзије као једнодозна паковањ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чност дозирања и уједначеност дозе (кап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шка чистоћа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категорија 3А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80880" y="119700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хтеви које треба да задовоље раствори за  оралну примен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1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ватљив укус (средства за корекцију укуса и мири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1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дност је обично 7 али се толерише опсег 2-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1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ћи вискоз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06164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чни препарати за спољашњу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потребу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quida ad usum dermic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 препарати за спољашњу примену, различитог вискозит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њени за примену на кожу у циљу постизања локалног делова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бити раствори, суспензије и емулзи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 једну или више лековитих супстанци у одговарајућем вехикулу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не материје: конзерван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нтиоксиданси, средства за повећање вискозитета, емулгатори, солубилизатори, стабилизато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течних препарата за спољашњу примену (Ph. Jug. V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мпо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који се наносе на оштећену кожу морају бити стерил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е супстанце: антисептици, дезифицијенси, антимикотици, кортикостероди, НСА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питивањ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је препарат декларисан као стерилан мора се испитати стерилнос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за уши, у монографији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uricul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намењени за примену у ушни кан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 једну или више лековитих супстанци у одговарајућем вехикулу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ћне материје: за подешавање тоничности, вискозитета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дности, као и конзерванси, средства за побољшање растворљивости лековитих супстанци и стабилизатор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, суспензије или емулзије једне или више лековитих супстанци у одговарајућем вехикулум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и или неводени раствори намењени за примену у ушни канал у циљу постизања антииннфламаторног, аналгетског ефекта или уклањања церуме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ехикулуми за израду раствор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ода, глицерол, безводни глицерол, полиетиленгликол (ПЕГ) 300 и 400, пропиленгликол, мешавина глицерола, полиетиленгликола и воде, минерална уља, биљна уљ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парати за уклањање церумена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тске ПА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етаноламин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липептид-олеат, препарат урее у глицеролу и вод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парати са антиинфективним, антиинфламаторним и аналгетским деловањ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зни вехикулуми омогућавају довољно дуг контакт између лека и тки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а хигроскопност помаже у извлачењу влаге из упаљеног ткива и тако смањује инфламациј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циљу смањења бола, који често прати инфекцију уха додају се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налгетици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антипирин) и локални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нестетици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лидокаин, бензокаин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нтиинфламаторн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генси најчешће су кортикостероиди (хидрокортизон, дексаметазон- натрију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нтибиотиц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хлорамфеникол, гентамицин-сулфат, неомицин-сулф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е су комбинације антибиотика и кортикостерои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еацидификацију ушног канала користи се 2% раствор сирћетне киселине у раствору алуминијум-ацетата или раствор борне киселине у изопропил алкохолу, етанолу или пропиленгликолу. Ограничена је употреба код деце због могућности апсорпције преко оштећене ко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: стерилност препарата код којих се то захт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за нос, у монографији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s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</a:t>
            </a:r>
            <a:r>
              <a:rPr b="0" lang="ru-RU" sz="2800" spc="-1" strike="noStrike">
                <a:solidFill>
                  <a:srgbClr val="e816ca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(раствори, суспензије, емулзије) намењени за примену у носну шупљину, у циљу постизања локалног и/или системског делова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еју да иритирају место примене, нити да ометају функцију слузокоже носа или цилиј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чно вишедозни препарати (са апликатором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4920" y="1341000"/>
            <a:ext cx="84438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твори за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конгестију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залне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узок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и раствори, изотонични са назалном течношћу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алне течности је 5,5 - 6,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не материје: к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нзерванси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ензалконијум-хлорид, хлорбутанол, тиомерсал, фенилмеркури-нитрат или ацетат);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билизатори и средства за подизање вискозитета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тил-целулоза, ХПМЦ, поливинил алкохол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 - ринитис (3 – 5 дана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е компоненте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рдрин-хлорид,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фазолин-хлорид, фенилефрин-хлорид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24000" y="1717560"/>
            <a:ext cx="838188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Раствори су хомоген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једнофазни  термодинамички стабилни системи који се састоје од две или више компонент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olutiones medicinale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Ph Jug. IV) – течни, бистри препарати који садрже једну или више лековитих супстанци растворених у одговарајућем растварач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h. Jug. 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води течне лековите препарате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iquida peroralia, Liquida ad usum dermicum, Auricularia, Nasal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324000" y="981000"/>
            <a:ext cx="69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ЕФИНИ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твори за испирање но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и, изотонични раствори, намењени за чишћење носне шупљи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примењују на оштећене делове носне шупљине или при хируршким интервенцијама морају бити стерилн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З Р А Д А раств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арањем активних и помоћних супстанци у одговарајућем растварачу или смеши растварача, са или без додатка посредника за растварањ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16ca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вера: начина прописивања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p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 доза или концентрација, компатибилности састојака и начина примен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се односи на тежински %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овери доза раствора за унутрашњу употребу, обратити пажњу на запремину (кашичица или кап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раствора за спољашњу употребу % лековите супстанце се упоређује са средњим концентрацијама датим у Фармакопеји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395280" y="1484280"/>
            <a:ext cx="80643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ма посебних упутстава за рад, осим да се по потреб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лтрирају (обојени раствори- обавезно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бор одговарајуће амбалаж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екватно сигнир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хтеви које треба да задовоље раствор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абилност и прихватљивост од стране пациј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ерилност за парентералне и окуларне раств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хватљив укус за оралне раств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отоничност и изохидричност за парентералне раств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икробиолошки квалите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s://www.youtube.com/watch?v=boRRoAwjy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ШКИ КВАЛИТЕТ ФАРМАЦЕУТСКИХ ПРЕПА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74872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√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оралну примен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тегорија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3A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више од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еробних бактерија и не више 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љивиц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дсуств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herichia c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спољашњу употреб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e816ca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тегорија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ише од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еробних бактерија 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љивиц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ише 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теробактерија и неких других Гра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них бактер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уств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monas aerugin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уств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philococcus aur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бити за спољашњу и унутрашњу употребу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VENDUM + SOLVENS = SOLU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арач је фаза у којој се врши дисперговање растворне супстанце /дисперзно средство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ена супстанца је компонента која се диспергује у растварачу у облику малих молекула или јона /диспергована супстанца-растворак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су молекулске или јонске дисперз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50920" y="836280"/>
            <a:ext cx="86868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ЉИВОС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на количина супстанце која може да се раствори у одређеној запремини растварача при константној температури (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центрација засићеног раствора на одређеној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мператур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мперату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љив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стварању долази до раскидања интермолекуларних привлачних сила измећу молекула растворене супстанце и молекула растварача да би се формирала веза између молекула растворене супстанце и раствара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:\Far.tehnologija 1\2021 22\III nedelja\shema rastvorljivosti.jpg"/>
          <p:cNvPicPr/>
          <p:nvPr/>
        </p:nvPicPr>
        <p:blipFill>
          <a:blip r:embed="rId1"/>
          <a:stretch/>
        </p:blipFill>
        <p:spPr>
          <a:xfrm>
            <a:off x="324000" y="2060640"/>
            <a:ext cx="8229600" cy="28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љивост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Југословенска фармакопеја 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600200"/>
          <a:ext cx="8229600" cy="4789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31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РАСТВОРЉИВОС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на 15 и 30</a:t>
                      </a: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°</a:t>
                      </a: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Запремина растварача у</a:t>
                      </a:r>
                      <a:r>
                        <a:rPr b="1" lang="sr-Latn-C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ml </a:t>
                      </a:r>
                      <a:r>
                        <a:rPr b="1" lang="sr-R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о</a:t>
                      </a:r>
                      <a:r>
                        <a:rPr b="1" lang="sr-Latn-C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1 g </a:t>
                      </a:r>
                      <a:r>
                        <a:rPr b="1" lang="sr-R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растворне супстанц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ло лако раствор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ако раствор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 1 do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твор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 10 d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ерено раствор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 30 do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шко раствор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 100 do 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ло тешко раствор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 1000 do 10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главном нераствор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који утичу на растворљиво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263700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а супстанце која се раств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а раствар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д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вање с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0</cp:lastModifiedBy>
  <dcterms:modified xsi:type="dcterms:W3CDTF">2023-08-31T07:42:02Z</dcterms:modified>
  <cp:revision>203</cp:revision>
  <dc:subject/>
  <dc:title>Slide 1</dc:title>
</cp:coreProperties>
</file>